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237663" cy="70421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79360" y="685440"/>
            <a:ext cx="44992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0469-4839-4BAE-883D-467E72DF3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191F-73AF-4B96-A676-007FDFD20670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92C-0B9A-4AA3-866A-1C254AC892B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E347-A633-48B5-A91D-50EBD18CDB80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022-F8CF-4A2A-A2EB-F63CF41BED3F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9204-95AB-4048-A4FE-790C5C8D141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BFE-E893-4F06-88A8-62B2133BAD1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E999-AE7D-40C3-9048-704B46DB20EA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FC88-60FD-4D17-8828-FA7EBB48A6A3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76BE-BF76-491C-8EFE-E40CC3B25FD1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33B-6BBD-48B2-B4E1-A5A0BF63B3FF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BED-08D0-41FC-8CC1-2E6A13C8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DBF-DCB6-48ED-81CB-7F8BD40B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737-8851-4BD4-8298-155577A1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9DD-4BBA-4B2D-8FED-AEEA6E05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191-1522-4A33-9F83-5A241265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17E-DB54-4C64-AF9D-6663A77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6389-B9FE-44F1-B212-73A5BD4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5661-FEF2-43BC-94C0-CEC7E03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33F8-C2B5-42F3-864A-FAF1DECA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87B7-9011-454B-B6DB-254B786E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621A-C305-4567-9BC3-4386406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53F-E24B-426A-8EB6-A0D8EF29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326-AF2B-4D08-B007-31CE02FF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F94-BD9E-4C46-9801-AB7FF8B9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322-E462-4E57-A38E-46E918DA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DF5A-57B0-48C5-A48C-AF7A44C9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EE4-F294-482E-99D5-B7809295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FBF5-1C0C-4B6F-B942-51F50FD1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EFEC-435E-406C-94BF-583B7AB3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1043-BE88-4F30-AB6F-001AE684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BD20-FB9F-4F88-9FEE-14E3894F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7E25-BDBC-44A9-8152-0CD4D81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C08-AC13-465D-A1BA-0366FAE9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70EA-62F7-43AE-8A08-73B5674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7F58-E2CB-436C-8192-4D0207D8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71EA-345C-4B5F-83AA-2CE886E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06F1-86E5-495F-8296-2CD417D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11AA-3BCF-41A5-B8BA-BC095EC9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75CD-5CC2-4A99-A6AE-8B460DE3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69D8-F518-43E3-87EF-2821A4C9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944F-E313-4807-9A4C-AAB0B1F3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095A-BBDD-47EB-8707-D6A7E4B6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3490-1B50-4BB1-A339-E8BD5940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462-F184-40FA-8762-C39F21DA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71093-B70D-431E-924F-680E12A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0F28-B2D8-4C4C-B072-F2D7DD2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30F3-4BC7-42A8-9E10-D55AACBD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24DA-4CD9-4594-A41D-0C16250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BC18-CF1A-4BE1-B900-13D8CDA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AA0D-BC96-41DA-8D0E-4F31D326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DBF1-3A7C-4528-8BC9-32AD9BDD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82A5-3D83-40D3-A56D-74E94C69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2A18-DD7B-4C10-B8F1-7361F301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071-AD6F-4CD3-95A6-3CEC1CD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0E4-E55D-445C-A04A-D7A9F6F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471-8EAB-4098-B9C6-8831AC3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7AB-BBEF-4592-8E7B-2E4762F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D41-D468-4AC8-AA8F-4DA42B4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22280" y="1127160"/>
            <a:ext cx="441360" cy="487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8200" y="1127160"/>
            <a:ext cx="331560" cy="4874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31880" y="1235160"/>
            <a:ext cx="426960" cy="48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60480" y="1158840"/>
            <a:ext cx="371520" cy="485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8520" y="1486080"/>
            <a:ext cx="56520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0040" y="1017720"/>
            <a:ext cx="31680" cy="1079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03280" y="1616040"/>
            <a:ext cx="830880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-14760" bIns="-14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3680" y="396720"/>
            <a:ext cx="7872480" cy="1175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23400" y="6492600"/>
            <a:ext cx="19242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85800" y="6492600"/>
            <a:ext cx="29257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849720" y="6492600"/>
            <a:ext cx="19242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8179-0ACC-4BF2-8CC3-6AF847746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2280" y="1127160"/>
            <a:ext cx="441360" cy="4874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8200" y="1127160"/>
            <a:ext cx="331560" cy="4874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6120" y="1562040"/>
            <a:ext cx="426960" cy="48600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20880" y="1562040"/>
            <a:ext cx="371520" cy="48600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8520" y="1486080"/>
            <a:ext cx="56520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70040" y="1017720"/>
            <a:ext cx="31680" cy="1079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840" y="1828800"/>
            <a:ext cx="830880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-14760" bIns="-14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056360" y="6571800"/>
            <a:ext cx="76536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-36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3BD5-B982-463B-B1DB-B847856A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22280" y="1127160"/>
            <a:ext cx="441360" cy="487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8200" y="1127160"/>
            <a:ext cx="331560" cy="4874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31880" y="1235160"/>
            <a:ext cx="426960" cy="48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60480" y="1158840"/>
            <a:ext cx="371520" cy="485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8520" y="1486080"/>
            <a:ext cx="56520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70040" y="1017720"/>
            <a:ext cx="31680" cy="1079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03280" y="1616040"/>
            <a:ext cx="830880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-14760" bIns="-14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0" y="2503440"/>
            <a:ext cx="9099360" cy="1080720"/>
            <a:chOff x="0" y="2503440"/>
            <a:chExt cx="9099360" cy="1080720"/>
          </a:xfrm>
        </p:grpSpPr>
        <p:grpSp>
          <p:nvGrpSpPr>
            <p:cNvPr id="104" name="Group 3"/>
            <p:cNvGrpSpPr/>
            <p:nvPr/>
          </p:nvGrpSpPr>
          <p:grpSpPr>
            <a:xfrm>
              <a:off x="296640" y="2614320"/>
              <a:ext cx="719280" cy="487440"/>
              <a:chOff x="296640" y="2614320"/>
              <a:chExt cx="719280" cy="48744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296640" y="2614320"/>
                <a:ext cx="442440" cy="487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684000" y="2614320"/>
                <a:ext cx="331920" cy="487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7" name="Group 6"/>
            <p:cNvGrpSpPr/>
            <p:nvPr/>
          </p:nvGrpSpPr>
          <p:grpSpPr>
            <a:xfrm>
              <a:off x="423000" y="3047760"/>
              <a:ext cx="743760" cy="487440"/>
              <a:chOff x="423000" y="3047760"/>
              <a:chExt cx="743760" cy="487440"/>
            </a:xfrm>
          </p:grpSpPr>
          <p:sp>
            <p:nvSpPr>
              <p:cNvPr id="108" name="Rectangle 7"/>
              <p:cNvSpPr/>
              <p:nvPr/>
            </p:nvSpPr>
            <p:spPr>
              <a:xfrm>
                <a:off x="423000" y="3047760"/>
                <a:ext cx="425160" cy="4874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93800" y="3047760"/>
                <a:ext cx="372960" cy="4874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0" name="Rectangle 9"/>
            <p:cNvSpPr/>
            <p:nvPr/>
          </p:nvSpPr>
          <p:spPr>
            <a:xfrm>
              <a:off x="0" y="2972880"/>
              <a:ext cx="565920" cy="4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641160" y="2503440"/>
              <a:ext cx="31680" cy="10807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 flipV="1">
              <a:off x="318960" y="3347640"/>
              <a:ext cx="8780400" cy="568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3680" y="396720"/>
            <a:ext cx="7872480" cy="1175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999720" y="6414840"/>
            <a:ext cx="19242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463560" y="6414840"/>
            <a:ext cx="292428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927480" y="6414840"/>
            <a:ext cx="19242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6FA-4D83-4335-B810-D919D6D298A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2503440"/>
            <a:ext cx="9099360" cy="1080720"/>
            <a:chOff x="0" y="2503440"/>
            <a:chExt cx="9099360" cy="1080720"/>
          </a:xfrm>
        </p:grpSpPr>
        <p:grpSp>
          <p:nvGrpSpPr>
            <p:cNvPr id="155" name="Group 3"/>
            <p:cNvGrpSpPr/>
            <p:nvPr/>
          </p:nvGrpSpPr>
          <p:grpSpPr>
            <a:xfrm>
              <a:off x="296640" y="2614320"/>
              <a:ext cx="719280" cy="487440"/>
              <a:chOff x="296640" y="2614320"/>
              <a:chExt cx="719280" cy="487440"/>
            </a:xfrm>
          </p:grpSpPr>
          <p:sp>
            <p:nvSpPr>
              <p:cNvPr id="156" name="Rectangle 4"/>
              <p:cNvSpPr/>
              <p:nvPr/>
            </p:nvSpPr>
            <p:spPr>
              <a:xfrm>
                <a:off x="296640" y="2614320"/>
                <a:ext cx="442440" cy="4874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5"/>
              <p:cNvSpPr/>
              <p:nvPr/>
            </p:nvSpPr>
            <p:spPr>
              <a:xfrm>
                <a:off x="684000" y="2614320"/>
                <a:ext cx="331920" cy="4874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6"/>
            <p:cNvGrpSpPr/>
            <p:nvPr/>
          </p:nvGrpSpPr>
          <p:grpSpPr>
            <a:xfrm>
              <a:off x="423000" y="3047760"/>
              <a:ext cx="743760" cy="487440"/>
              <a:chOff x="423000" y="3047760"/>
              <a:chExt cx="743760" cy="487440"/>
            </a:xfrm>
          </p:grpSpPr>
          <p:sp>
            <p:nvSpPr>
              <p:cNvPr id="159" name="Rectangle 7"/>
              <p:cNvSpPr/>
              <p:nvPr/>
            </p:nvSpPr>
            <p:spPr>
              <a:xfrm>
                <a:off x="423000" y="3047760"/>
                <a:ext cx="425160" cy="4874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8"/>
              <p:cNvSpPr/>
              <p:nvPr/>
            </p:nvSpPr>
            <p:spPr>
              <a:xfrm>
                <a:off x="793800" y="3047760"/>
                <a:ext cx="372960" cy="4874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1" name="Rectangle 9"/>
            <p:cNvSpPr/>
            <p:nvPr/>
          </p:nvSpPr>
          <p:spPr>
            <a:xfrm>
              <a:off x="0" y="2972880"/>
              <a:ext cx="565920" cy="4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641160" y="2503440"/>
              <a:ext cx="31680" cy="1080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 flipV="1">
              <a:off x="318960" y="3347640"/>
              <a:ext cx="8780400" cy="56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980400" y="6571800"/>
            <a:ext cx="74448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-360" y="6567480"/>
            <a:ext cx="5684760" cy="473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275680" y="664380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910-61FF-47C7-B0D7-05C57B4F6BD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1520" y="1720800"/>
            <a:ext cx="8504280" cy="1501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ffective Training: Systems, Strategies, and Practices, 4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Edi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08200" y="3900240"/>
            <a:ext cx="7696080" cy="163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ahoma"/>
              </a:rPr>
              <a:t>Chapter Eleve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. Nick Blanchard and James W. Tha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275680" y="6643800"/>
            <a:ext cx="96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11-</a:t>
            </a:r>
            <a:fld id="{B7D11B87-5963-4201-B4B2-96728C51FECD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0" y="6567480"/>
            <a:ext cx="5684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DAEDD8A3-1021-49DE-9693-1042A92CCC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2400" y="700200"/>
            <a:ext cx="8123400" cy="1218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Strategy—Managerial Characteristics Integration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– Part 2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79600" y="2452680"/>
          <a:ext cx="8275320" cy="3483000"/>
        </p:xfrm>
        <a:graphic>
          <a:graphicData uri="http://schemas.openxmlformats.org/drawingml/2006/table">
            <a:tbl>
              <a:tblPr/>
              <a:tblGrid>
                <a:gridCol w="1855800"/>
                <a:gridCol w="3403440"/>
                <a:gridCol w="3016080"/>
              </a:tblGrid>
              <a:tr h="40500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CA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Trait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ility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 motive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E9C5BC77-372E-4AC3-80CA-51FDF421C9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8720" y="471240"/>
            <a:ext cx="8047080" cy="1447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Strategy—Managerial Characteristics Integration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– Part 3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55560" y="2376360"/>
          <a:ext cx="8002800" cy="4038840"/>
        </p:xfrm>
        <a:graphic>
          <a:graphicData uri="http://schemas.openxmlformats.org/drawingml/2006/table">
            <a:tbl>
              <a:tblPr/>
              <a:tblGrid>
                <a:gridCol w="1795680"/>
                <a:gridCol w="3289320"/>
                <a:gridCol w="2917800"/>
              </a:tblGrid>
              <a:tr h="53352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CA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Sty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ve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ive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difference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difference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-ment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ctive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0" y="6492960"/>
            <a:ext cx="5761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8280360" y="6570720"/>
            <a:ext cx="955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C59C4DE0-D4A5-4054-830F-37C9690C30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3680" y="396720"/>
            <a:ext cx="7872480" cy="1175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400" spc="-1" strike="noStrike">
                <a:solidFill>
                  <a:srgbClr val="262673"/>
                </a:solidFill>
                <a:latin typeface="Tahoma"/>
              </a:rPr>
              <a:t>Mintzberg’s Managerial Role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533520" y="1919160"/>
            <a:ext cx="8046720" cy="4586040"/>
            <a:chOff x="533520" y="1919160"/>
            <a:chExt cx="8046720" cy="4586040"/>
          </a:xfrm>
        </p:grpSpPr>
        <p:sp>
          <p:nvSpPr>
            <p:cNvPr id="220" name="Text Box 4"/>
            <p:cNvSpPr/>
            <p:nvPr/>
          </p:nvSpPr>
          <p:spPr>
            <a:xfrm>
              <a:off x="533520" y="4205880"/>
              <a:ext cx="1917720" cy="22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personal 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gurehead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aison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3410280" y="4205880"/>
              <a:ext cx="1919520" cy="16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onal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semina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kesperson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5990040" y="4205880"/>
              <a:ext cx="2590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isional 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repreneu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turbance Handle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ource Alloca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gotia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2343240" y="1919160"/>
              <a:ext cx="41349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Authority and Statu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4368960" y="2319840"/>
              <a:ext cx="19440" cy="173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4636440" y="2319840"/>
              <a:ext cx="2496240" cy="18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 flipH="1">
              <a:off x="1798200" y="2319840"/>
              <a:ext cx="2287800" cy="18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6D905637-5722-4B1D-BB32-313BC1E737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62080" y="623880"/>
            <a:ext cx="7872480" cy="129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Description of Managerial Roles </a:t>
            </a:r>
            <a:br>
              <a:rPr sz="34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Part 1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31880" y="2071800"/>
          <a:ext cx="8113680" cy="504720"/>
        </p:xfrm>
        <a:graphic>
          <a:graphicData uri="http://schemas.openxmlformats.org/drawingml/2006/table">
            <a:tbl>
              <a:tblPr/>
              <a:tblGrid>
                <a:gridCol w="2832120"/>
                <a:gridCol w="5281560"/>
              </a:tblGrid>
              <a:tr h="5047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l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ctivit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31880" y="2604960"/>
          <a:ext cx="8113680" cy="595440"/>
        </p:xfrm>
        <a:graphic>
          <a:graphicData uri="http://schemas.openxmlformats.org/drawingml/2006/table">
            <a:tbl>
              <a:tblPr/>
              <a:tblGrid>
                <a:gridCol w="2751120"/>
                <a:gridCol w="5362560"/>
              </a:tblGrid>
              <a:tr h="595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5560" y="3138480"/>
          <a:ext cx="8075520" cy="1006560"/>
        </p:xfrm>
        <a:graphic>
          <a:graphicData uri="http://schemas.openxmlformats.org/drawingml/2006/table">
            <a:tbl>
              <a:tblPr/>
              <a:tblGrid>
                <a:gridCol w="2210040"/>
                <a:gridCol w="5865480"/>
              </a:tblGrid>
              <a:tr h="10065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igurehead  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ets the routine, obligatory, social, and legal duties required of the head of a unit. (e.g. attendance at social functions, meeting with politicians, buyers, or suppliers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55560" y="4357800"/>
          <a:ext cx="8312400" cy="657000"/>
        </p:xfrm>
        <a:graphic>
          <a:graphicData uri="http://schemas.openxmlformats.org/drawingml/2006/table">
            <a:tbl>
              <a:tblPr/>
              <a:tblGrid>
                <a:gridCol w="2152800"/>
                <a:gridCol w="6159600"/>
              </a:tblGrid>
              <a:tr h="6570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eader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ains, develops, and motivates the human resources necessary to meet the needs of the unit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55560" y="5272200"/>
          <a:ext cx="8158320" cy="93816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9381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iais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s and maintains a network of individuals outside the unit in order to acquire information and action of benefit to the unit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Straight Connector 10"/>
          <p:cNvSpPr/>
          <p:nvPr/>
        </p:nvSpPr>
        <p:spPr>
          <a:xfrm>
            <a:off x="2408400" y="214776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Straight Connector 12"/>
          <p:cNvSpPr/>
          <p:nvPr/>
        </p:nvSpPr>
        <p:spPr>
          <a:xfrm>
            <a:off x="655560" y="42814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traight Connector 14"/>
          <p:cNvSpPr/>
          <p:nvPr/>
        </p:nvSpPr>
        <p:spPr>
          <a:xfrm>
            <a:off x="655560" y="5195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traight Connector 16"/>
          <p:cNvSpPr/>
          <p:nvPr/>
        </p:nvSpPr>
        <p:spPr>
          <a:xfrm>
            <a:off x="351000" y="29862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89325DFF-C47B-423D-B870-B0E12DE21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62080" y="547560"/>
            <a:ext cx="7872480" cy="1371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Description of Managerial Roles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 Part 2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533520" y="2071800"/>
            <a:ext cx="8159760" cy="620640"/>
            <a:chOff x="533520" y="2071800"/>
            <a:chExt cx="8159760" cy="620640"/>
          </a:xfrm>
        </p:grpSpPr>
        <p:sp>
          <p:nvSpPr>
            <p:cNvPr id="243" name="Rectangle 4"/>
            <p:cNvSpPr/>
            <p:nvPr/>
          </p:nvSpPr>
          <p:spPr>
            <a:xfrm>
              <a:off x="3703680" y="2071800"/>
              <a:ext cx="49881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23184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ctiviti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808200" y="2071800"/>
              <a:ext cx="2573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23184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6"/>
            <p:cNvSpPr/>
            <p:nvPr/>
          </p:nvSpPr>
          <p:spPr>
            <a:xfrm>
              <a:off x="533520" y="2071800"/>
              <a:ext cx="28479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533520" y="2591280"/>
              <a:ext cx="284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533520" y="2071800"/>
              <a:ext cx="1440" cy="62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8691840" y="2071800"/>
              <a:ext cx="1440" cy="62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3381480" y="2071800"/>
              <a:ext cx="53103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>
              <a:off x="3381480" y="2591280"/>
              <a:ext cx="5310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884160" y="2589120"/>
          <a:ext cx="7890120" cy="352440"/>
        </p:xfrm>
        <a:graphic>
          <a:graphicData uri="http://schemas.openxmlformats.org/drawingml/2006/table">
            <a:tbl>
              <a:tblPr/>
              <a:tblGrid>
                <a:gridCol w="2754360"/>
                <a:gridCol w="5135760"/>
              </a:tblGrid>
              <a:tr h="352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808200" y="3062160"/>
          <a:ext cx="8119800" cy="1143000"/>
        </p:xfrm>
        <a:graphic>
          <a:graphicData uri="http://schemas.openxmlformats.org/drawingml/2006/table">
            <a:tbl>
              <a:tblPr/>
              <a:tblGrid>
                <a:gridCol w="1752480"/>
                <a:gridCol w="6367320"/>
              </a:tblGrid>
              <a:tr h="11430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onito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es for and acquires information about the unit and its environment so that the manager becomes an information center for the unit and the organization; derives from liaison and leader roles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70040" y="4281480"/>
          <a:ext cx="8157960" cy="990720"/>
        </p:xfrm>
        <a:graphic>
          <a:graphicData uri="http://schemas.openxmlformats.org/drawingml/2006/table">
            <a:tbl>
              <a:tblPr/>
              <a:tblGrid>
                <a:gridCol w="1790640"/>
                <a:gridCol w="6367320"/>
              </a:tblGrid>
              <a:tr h="9907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issemin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es selected information to others within the unit or organization, some of which has been transformed through integration with other informati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70040" y="5397480"/>
          <a:ext cx="8157960" cy="939960"/>
        </p:xfrm>
        <a:graphic>
          <a:graphicData uri="http://schemas.openxmlformats.org/drawingml/2006/table">
            <a:tbl>
              <a:tblPr/>
              <a:tblGrid>
                <a:gridCol w="1790640"/>
                <a:gridCol w="6367320"/>
              </a:tblGrid>
              <a:tr h="9399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pokespers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ing selected information to others outside the unit regarding plans, values, activities, and other elements of the unit and conveys the appropriate image of the unit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Straight Connector 18"/>
          <p:cNvSpPr/>
          <p:nvPr/>
        </p:nvSpPr>
        <p:spPr>
          <a:xfrm>
            <a:off x="351000" y="29862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20"/>
          <p:cNvSpPr/>
          <p:nvPr/>
        </p:nvSpPr>
        <p:spPr>
          <a:xfrm>
            <a:off x="731880" y="42814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traight Connector 22"/>
          <p:cNvSpPr/>
          <p:nvPr/>
        </p:nvSpPr>
        <p:spPr>
          <a:xfrm>
            <a:off x="731880" y="52722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24"/>
          <p:cNvSpPr/>
          <p:nvPr/>
        </p:nvSpPr>
        <p:spPr>
          <a:xfrm>
            <a:off x="2484360" y="214776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9248D04D-BD49-46FF-B10F-DB246DC19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2400" y="700200"/>
            <a:ext cx="7921800" cy="1218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Description of Managerial Role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Part 3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2071800"/>
          <a:ext cx="8159760" cy="428400"/>
        </p:xfrm>
        <a:graphic>
          <a:graphicData uri="http://schemas.openxmlformats.org/drawingml/2006/table">
            <a:tbl>
              <a:tblPr/>
              <a:tblGrid>
                <a:gridCol w="3094200"/>
                <a:gridCol w="5065560"/>
              </a:tblGrid>
              <a:tr h="4284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l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ctivit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884160" y="2529000"/>
          <a:ext cx="7931160" cy="352440"/>
        </p:xfrm>
        <a:graphic>
          <a:graphicData uri="http://schemas.openxmlformats.org/drawingml/2006/table">
            <a:tbl>
              <a:tblPr/>
              <a:tblGrid>
                <a:gridCol w="2414520"/>
                <a:gridCol w="5516640"/>
              </a:tblGrid>
              <a:tr h="352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siona</a:t>
                      </a:r>
                      <a:r>
                        <a:rPr b="1" i="1" lang="en-US" sz="1700" spc="-1" strike="noStrike">
                          <a:solidFill>
                            <a:srgbClr val="008e69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55560" y="2987640"/>
          <a:ext cx="8158320" cy="138924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13892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preneu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s and proactively develops the unit to take advantage of existing opportunities or meet anticipated threats in the environment.; acts based on inferences and conclusions drawn from the evaluation and integration of information gathered in the monitor role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625320" y="4433760"/>
          <a:ext cx="8158320" cy="78768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78768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urbance handler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ts to meet the immediate demands of the unit. (e.g. a wildcat strike, loss of a major customer)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55560" y="5197320"/>
          <a:ext cx="8158320" cy="61128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61128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 allocato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es and chooses among proposals; integrates and authorizes activities and resource utilizati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655560" y="5958000"/>
          <a:ext cx="8158320" cy="61092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6116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otiato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gains to acquire the resources to meet the needs of the unit and organizati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Straight Connector 11"/>
          <p:cNvSpPr/>
          <p:nvPr/>
        </p:nvSpPr>
        <p:spPr>
          <a:xfrm>
            <a:off x="2712960" y="222408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traight Connector 13"/>
          <p:cNvSpPr/>
          <p:nvPr/>
        </p:nvSpPr>
        <p:spPr>
          <a:xfrm>
            <a:off x="274680" y="29862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traight Connector 15"/>
          <p:cNvSpPr/>
          <p:nvPr/>
        </p:nvSpPr>
        <p:spPr>
          <a:xfrm>
            <a:off x="655560" y="443376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traight Connector 17"/>
          <p:cNvSpPr/>
          <p:nvPr/>
        </p:nvSpPr>
        <p:spPr>
          <a:xfrm>
            <a:off x="655560" y="5043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traight Connector 19"/>
          <p:cNvSpPr/>
          <p:nvPr/>
        </p:nvSpPr>
        <p:spPr>
          <a:xfrm>
            <a:off x="655560" y="58816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51AF5F77-A24C-4738-BA87-C7B06EE17D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2080" y="623880"/>
            <a:ext cx="7872480" cy="129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Strategy, Technology, and Structure Integr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1880" y="2425680"/>
          <a:ext cx="8236080" cy="2894040"/>
        </p:xfrm>
        <a:graphic>
          <a:graphicData uri="http://schemas.openxmlformats.org/drawingml/2006/table">
            <a:tbl>
              <a:tblPr/>
              <a:tblGrid>
                <a:gridCol w="2924280"/>
                <a:gridCol w="2771640"/>
                <a:gridCol w="2540160"/>
              </a:tblGrid>
              <a:tr h="6476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olog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Routin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in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-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Organic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Mechanistic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-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sion   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ing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Decentralized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76b74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Centralized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7A4DCD35-CBBF-4E5C-ABC3-3222D1AAC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4160" y="469440"/>
            <a:ext cx="7872480" cy="14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Managerial Roles and Associated Management Characteristic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Part 1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1996920"/>
          <a:ext cx="8080560" cy="2463840"/>
        </p:xfrm>
        <a:graphic>
          <a:graphicData uri="http://schemas.openxmlformats.org/drawingml/2006/table">
            <a:tbl>
              <a:tblPr/>
              <a:tblGrid>
                <a:gridCol w="2297160"/>
                <a:gridCol w="1506600"/>
                <a:gridCol w="1301760"/>
                <a:gridCol w="1752480"/>
                <a:gridCol w="1222560"/>
              </a:tblGrid>
              <a:tr h="454320">
                <a:tc gridSpan="4"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ledge and Skill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it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ial Role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u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2880" rIns="92880" tIns="46440" bIns="46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pers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1448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ehea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1448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1448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iso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09480" y="4995720"/>
          <a:ext cx="8077320" cy="113220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1447920"/>
                <a:gridCol w="1676160"/>
                <a:gridCol w="12193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semin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spers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67"/>
          <p:cNvSpPr/>
          <p:nvPr/>
        </p:nvSpPr>
        <p:spPr>
          <a:xfrm>
            <a:off x="609480" y="466236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rmationa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Straight Connector 8"/>
          <p:cNvSpPr/>
          <p:nvPr/>
        </p:nvSpPr>
        <p:spPr>
          <a:xfrm>
            <a:off x="655560" y="2757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063F232F-E68F-4DB4-BFC2-C6E3A8E55A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8720" y="396720"/>
            <a:ext cx="8047080" cy="15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Managerial Roles and Associated Management Characteristics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 Part 2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2057400"/>
          <a:ext cx="8543880" cy="3349800"/>
        </p:xfrm>
        <a:graphic>
          <a:graphicData uri="http://schemas.openxmlformats.org/drawingml/2006/table">
            <a:tbl>
              <a:tblPr/>
              <a:tblGrid>
                <a:gridCol w="2430720"/>
                <a:gridCol w="1590480"/>
                <a:gridCol w="1508040"/>
                <a:gridCol w="1843200"/>
                <a:gridCol w="1171440"/>
              </a:tblGrid>
              <a:tr h="363600">
                <a:tc gridSpan="4"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ledge and Skill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it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ial Role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u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cisi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preneu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urbance  handle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 alloc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oti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Straight Connector 6"/>
          <p:cNvSpPr/>
          <p:nvPr/>
        </p:nvSpPr>
        <p:spPr>
          <a:xfrm>
            <a:off x="426960" y="27576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270902BD-F455-4654-9126-5A6705E8F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8720" y="471240"/>
            <a:ext cx="8047080" cy="1447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Strategy—Managerial Characteristics Integration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– Part 1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79600" y="2529000"/>
          <a:ext cx="8159760" cy="3276360"/>
        </p:xfrm>
        <a:graphic>
          <a:graphicData uri="http://schemas.openxmlformats.org/drawingml/2006/table">
            <a:tbl>
              <a:tblPr/>
              <a:tblGrid>
                <a:gridCol w="2052360"/>
                <a:gridCol w="3105360"/>
                <a:gridCol w="3002040"/>
              </a:tblGrid>
              <a:tr h="46332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CA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Skill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sophisticated and nonroutine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sophisticated and routine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ual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9:28:52Z</dcterms:created>
  <dc:creator>user</dc:creator>
  <dc:description/>
  <dc:language>en-US</dc:language>
  <cp:lastModifiedBy>Mami</cp:lastModifiedBy>
  <dcterms:modified xsi:type="dcterms:W3CDTF">2009-07-23T04:33:06Z</dcterms:modified>
  <cp:revision>100</cp:revision>
  <dc:subject/>
  <dc:title>No Trait and Treatment Interaction</dc:title>
</cp:coreProperties>
</file>